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2DE-4B2D-41D1-BEA5-69DDD9A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495-EAEE-40F6-B4B4-A68DE62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F14-950D-4AD3-860D-9B115372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1CD-AED4-4C2F-AA90-B824317B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2A81-9804-4B05-A11B-82AAB45A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D52E-FC3A-4AFA-819B-09A1590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B963-3E03-4D1B-9F3E-3826E9C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D9F-2439-44D1-965D-0556F762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2005-6F98-4016-818F-C3CD8FA6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C484-3474-4376-8072-48DFCF1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451B-32FB-47E8-A82B-68FC6A3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49A-67E2-409D-9E96-678672F8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7FF1-4861-4732-9758-9652C74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212-2821-42C9-9A14-02FE0E9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D75-6647-4F15-AC30-EA57756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FDA-32A9-4860-A504-23B7C73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BEC8-E14D-4D44-A606-22312BF6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00F-5D46-4654-AEC0-8F4BAE3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3A9-B50E-4E52-94E9-5F935BA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9C5-D25C-49B0-BCAC-73BA057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CBC-A775-4F49-8822-E34ABCC2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795-D88B-4CD2-901E-DF72543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266-2591-4590-97CA-8EAB1A8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067-0210-453F-8937-AD9817E2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010-BC53-4D45-8C7D-C17367BCA1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>
                <a:gd name="textAreaLeft" fmla="*/ 0 w 8102520"/>
                <a:gd name="textAreaRight" fmla="*/ 8102520 w 8102520"/>
                <a:gd name="textAreaTop" fmla="*/ 0 h 2844720"/>
                <a:gd name="textAreaBottom" fmla="*/ 2845080 h 2844720"/>
              </a:gdLst>
              <a:ahLst/>
              <a:rect l="textAreaLeft" t="textAreaTop" r="textAreaRight" b="textAreaBottom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2768760"/>
                <a:gd name="textAreaBottom" fmla="*/ 2769120 h 2768760"/>
              </a:gdLst>
              <a:ahLst/>
              <a:rect l="textAreaLeft" t="textAreaTop" r="textAreaRight" b="textAreaBottom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3219480"/>
                <a:gd name="textAreaBottom" fmla="*/ 3219840 h 3219480"/>
              </a:gdLst>
              <a:ahLst/>
              <a:rect l="textAreaLeft" t="textAreaTop" r="textAreaRight" b="textAreaBottom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2E18-CD3B-43FA-BD31-D44EB8434A6C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e96"/>
                </a:solidFill>
                <a:latin typeface="Arial Black"/>
              </a:rPr>
              <a:t>Linking Verbs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Using and Identifying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Linking Verb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Practice Tes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3009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ow are linking verbs different from action verb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What are examples of linking verbs?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Picture 5" descr="BD18239_"/>
          <p:cNvPicPr/>
          <p:nvPr/>
        </p:nvPicPr>
        <p:blipFill>
          <a:blip r:embed="rId1"/>
          <a:stretch/>
        </p:blipFill>
        <p:spPr>
          <a:xfrm>
            <a:off x="4610160" y="2374920"/>
            <a:ext cx="2628720" cy="2639880"/>
          </a:xfrm>
          <a:prstGeom prst="rect">
            <a:avLst/>
          </a:prstGeom>
          <a:ln w="0">
            <a:noFill/>
          </a:ln>
        </p:spPr>
      </p:pic>
      <p:pic>
        <p:nvPicPr>
          <p:cNvPr id="97" name="All About The Swizz 30 - Rap Upbeat.mp3" descr=""/>
          <p:cNvPicPr/>
          <p:nvPr/>
        </p:nvPicPr>
        <p:blipFill>
          <a:blip r:embed="rId2"/>
          <a:stretch/>
        </p:blipFill>
        <p:spPr>
          <a:xfrm>
            <a:off x="838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Linking Verb Definiti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Linking verbs are verbs that connect or </a:t>
            </a:r>
            <a:r>
              <a:rPr b="1" i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LINK</a:t>
            </a: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 the subject of a sentence to other information in the sentence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Linking verbs do </a:t>
            </a:r>
            <a:r>
              <a:rPr b="1" i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 show action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Some Examples of Linking Verbs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62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We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ing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com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cam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0160" y="1676520"/>
            <a:ext cx="262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eem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Look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Feel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Tas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ppear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Remain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mell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43000" y="1295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581280" y="1295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eb2"/>
                </a:solidFill>
                <a:latin typeface="Arial"/>
              </a:rPr>
              <a:t>Could be Action or Linking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Another Way to Remember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24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To the tune of London Bridge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m, are, is, was, were, and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aste, smell, sound, seem, look, feel,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row, appear, remai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Exceptions</a:t>
            </a: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Depending on how some are used, some words may be an action verb or linking verb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Try the substitution test: take out the verb, add is, are, or was. Does it make sense?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If it does, it is a linking verb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Amy </a:t>
            </a:r>
            <a:r>
              <a:rPr b="0" i="1" lang="en-US" sz="2000" spc="-1" strike="noStrike" u="sng">
                <a:solidFill>
                  <a:srgbClr val="446eb2"/>
                </a:solidFill>
                <a:uFillTx/>
                <a:latin typeface="Arial"/>
              </a:rPr>
              <a:t>looked</a:t>
            </a: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 through the telescope.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Amy </a:t>
            </a:r>
            <a:r>
              <a:rPr b="0" i="1" lang="en-US" sz="2000" spc="-1" strike="noStrike" u="sng">
                <a:solidFill>
                  <a:srgbClr val="446eb2"/>
                </a:solidFill>
                <a:uFillTx/>
                <a:latin typeface="Arial"/>
              </a:rPr>
              <a:t>looked</a:t>
            </a: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 pale.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Practice Tim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Page 359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Exercise 3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1-10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1" name="About Time 30 - HipHop Dance.mp3" descr=""/>
          <p:cNvPicPr/>
          <p:nvPr/>
        </p:nvPicPr>
        <p:blipFill>
          <a:blip r:embed="rId1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Extra Practic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8fab0"/>
                </a:solidFill>
                <a:uFillTx/>
                <a:latin typeface="Arial"/>
              </a:rPr>
              <a:t>http://www.curriculumassociates.com/educator-resources/write/grammar/grammarD_3.ht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45:39Z</dcterms:created>
  <dc:creator>Project Lead the Way</dc:creator>
  <dc:description/>
  <dc:language>en-US</dc:language>
  <cp:lastModifiedBy>tanthony</cp:lastModifiedBy>
  <dcterms:modified xsi:type="dcterms:W3CDTF">2013-10-01T03:31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